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748-09D7-43A7-A593-1C0F725F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13A-CD9D-47B5-8920-E7FBACEB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684-657F-4C5F-8A3E-15BFCFF3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773-EC74-446D-804E-17CCA1B3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B23-3B42-43AC-96AC-FA96F965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130-5ED5-4E1E-AE09-7001C613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18A-5265-4B2F-B711-D8DCB976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D0F-B105-411F-AAD0-0FB8D7C0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19B-CA4C-46F4-B7E2-36B71982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295-20E8-4E35-BB1D-42897273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EA4-003E-4ECD-AB71-C31C7CDF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0E8-C280-4EE5-9FF3-D5002A76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9967-CDBD-4AA8-A070-570ED4BF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p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396252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114300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re (is) _____ hills on this m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 contour lines do as they cross over a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tour interv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419720"/>
            <a:ext cx="82296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What is the elevation at point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Point A is between ____and ____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What is the elevation located at point B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228600"/>
            <a:ext cx="3429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276720" y="2209680"/>
          <a:ext cx="5867280" cy="3988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09680"/>
                    <a:ext cx="586728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04920" y="914400"/>
            <a:ext cx="6553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which location is the topography the steepest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ocation best represents a river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522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666880"/>
            <a:ext cx="3581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ocation best represents a h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ocation C, which way is the creek flowing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outh to north, east to west?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)    How many hil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on this map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86280" y="0"/>
            <a:ext cx="6057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371600"/>
            <a:ext cx="327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hills are located on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depres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 contour lines do as they cross over a ri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elevation on the small h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ontour interv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0"/>
            <a:ext cx="7315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hills are located on this m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e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tour interval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 contour lines do as they cross over a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ay does the river f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5143680" cy="443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16200000">
            <a:off x="-952200" y="3161880"/>
            <a:ext cx="3429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1676520"/>
            <a:ext cx="69343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st hazard to the great valley province is 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 occur at the San Andreas plate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. Shasta and Mt. Lassen form above a ______ plate bound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ary purpose of the California Aqueduct System is to move water to ______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  One source of renewable energy found in California that forms as a result of volcanoes is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3505320"/>
            <a:ext cx="190512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m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6094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10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8:22:25Z</dcterms:created>
  <dc:creator>jfuller</dc:creator>
  <dc:description/>
  <dc:language>en-US</dc:language>
  <cp:lastModifiedBy>jfuller</cp:lastModifiedBy>
  <dcterms:modified xsi:type="dcterms:W3CDTF">2011-12-05T21:10:49Z</dcterms:modified>
  <cp:revision>3</cp:revision>
  <dc:subject/>
  <dc:title>Map Makeup Bellwork</dc:title>
</cp:coreProperties>
</file>